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8220-1D51-4076-BE2D-BB115BAEE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8362-3069-4E68-BAD5-3FF7BBA06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CB6D-82FE-4AD0-AA01-FB3402038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8390-C9C1-4C7B-9A8A-DDBB962CF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DE4D0-E644-4552-9D77-2267EC1BF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B6F85-8416-48E4-B680-22E911726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8164E-9230-44EB-B8AE-B5B4DD257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422E8-7799-4BC2-AF6A-3E7B27A0A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91A28-5F1F-4250-A0AE-70B31D285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5E2DA-09E5-46F1-8AFD-855B274DC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D262A-520D-4F5E-B658-CC6B1A68C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1894-E554-47CD-B41E-4563B9605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FCA77-98E1-4D92-BF68-B9AA8B462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20925-A7A8-4567-94C6-1113E718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38DE0-AE1E-4603-A65A-005858340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E0D8F-B202-47A0-82C3-65F8F9597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6FAC6-96A7-4053-BA14-E8D4CEAA2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23CF-E88E-461D-A02E-34D562055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5890-ADF3-41E2-BA3E-DB7DEC1B2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E665-26CA-4A91-B5A6-2B1A28804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1E18-344B-429D-9FFC-721CF556B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F5E8-732A-4982-9FE3-042D83EA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F506-E68C-4741-9D1D-B90F94051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77D1-8058-4552-8186-4D18F535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29E82-940C-4CC2-AD76-7E4AC8501029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14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2F28D-F47D-4F7D-8126-4F05E65A3088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Internet Safety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33160" y="1904760"/>
            <a:ext cx="8001000" cy="46479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S V. Students understand human, cultural, and societal issues related to technology and practice legal and ethical behavio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ent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vocate and practice safe, legal, and responsible use of information and technolog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hibit a positive attitude toward using technology that supports collaboration, learning, and productivit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monstrate personal responsibility for lifelong learnin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hibit leadership for digital citizenship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Why Teach Internet Safety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fety from preda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vac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yber Bully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se choices…responsibility, accountabilit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in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Get to know your….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trict ru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hool ru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assroom ru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in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Resources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381880" cy="3429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Verdana"/>
              </a:rPr>
              <a:t>http://hcpstraining.org/itrt/HCPSISAFE/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Verdana"/>
              </a:rPr>
              <a:t>http://www.cybersmart.or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http://www.doe.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virginia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.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gov/VDOE/Technology/OET/internet-safety-guidelines-resour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8305920" y="1905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22160" y="2725560"/>
            <a:ext cx="297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Tahoma"/>
              </a:rPr>
              <a:t>http://origin.www.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ahoma"/>
              </a:rPr>
              <a:t>netsmartzkids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ahoma"/>
              </a:rPr>
              <a:t>.org/activities/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Kindergarten - 1st Grade Concepts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vac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wnershi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cognizing commerica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fe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in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2nd and 3rd Grade Concepts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vate Inform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n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in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4th and 5th Grade Concepts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vac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yber Pa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-mai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P (acceptable use policy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in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Middle School Concepts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yber Bully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propriate Online Activi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rrect use of cell ph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in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2T19:13:16Z</dcterms:created>
  <dc:creator>CMCSS</dc:creator>
  <dc:description/>
  <dc:language>en-US</dc:language>
  <cp:lastModifiedBy>CMCSS</cp:lastModifiedBy>
  <dcterms:modified xsi:type="dcterms:W3CDTF">2008-06-12T21:13:50Z</dcterms:modified>
  <cp:revision>16</cp:revision>
  <dc:subject/>
  <dc:title>Internet Safety</dc:title>
</cp:coreProperties>
</file>